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522C-9E19-46D8-90F4-CCD86AEF9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99DA-E12A-4AF8-83A5-01B27A2DBE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D7B9-5070-409F-995B-4206A35483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6883-6FA0-4EF2-B646-340DC6363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FE409-DB37-48C8-A455-499C7EB2AC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CBF8-DBA6-4D1D-9335-231C27B3F5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8965-F610-469C-87CA-424DCBF8B0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8BAA9-7ED9-456F-BAC0-636D35A75F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3240-3718-4D31-9638-013D1D65886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8DFBA-267F-4956-89AE-EC179AA79CD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F812D-DECB-4203-BE1F-3692702A7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02DB-76AA-4FA5-938A-46AB1DB32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E93FE-7A6C-43E6-B01F-B4006C0B39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73900-B92C-48E0-85B4-C07B0A9E5D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76067-D900-4BAD-8689-DD7A503511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AFAB4-177D-4FB0-A8C2-6A9F11C601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290D4-C3E2-4351-A20F-1EBA1C8073D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E451-72A8-4B65-AB97-21253F0A89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F5E7-7449-4CD7-AFF3-655689C442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B7C-BAB0-4B2A-84D8-BDC4EDEA24C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961-C0AE-48E4-9CEB-ED2B84AA13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955F-86D2-4421-AC5F-6078B5AB7C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DA60-4080-4A0C-BD4F-36B906A6EC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3AB-8834-4D24-A913-7CDB5B727A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748-EB6B-4E84-87E1-5A2B96FA49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7049-F1DB-4F57-A3AC-DB0D918DEF0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5C0-88FD-4EB6-8586-7BD0711A5D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8B8D-7FAA-4998-8ACE-D348952545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DEF4-805F-49A8-9E5B-22F85F8B76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379-73E2-4F47-A0E2-BD465CA03BF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ACA2-F052-4DD3-B74D-7F435A4C42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32C0-1406-40EE-AA70-326DB57E1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91BE-D6E5-427F-9D42-2208C14FE4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0AE84-E4A4-4340-9BF4-F990FEEDB8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0BCF7-8B43-425E-9612-44E1FB594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65BD-8265-43F0-B91D-9680DE626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5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B9B6-3444-49B7-8507-D1B8F4C738CF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32448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90DE-FC83-4316-A832-65639411FA0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5743-0517-4BCB-93D1-BFB0D00DD61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066680" y="632448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74840" y="2155680"/>
            <a:ext cx="8254800" cy="2541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720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designprojects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eeingreason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visualranking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5460480"/>
            <a:ext cx="87631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Module 3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veloping Curriculum-Framing Quest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Defining Curriculum-Framing Questions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inued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07–3.0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4878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Question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e unit-specific, open-ended ques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lp build understanding for the Essential Ques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y leave one’s home to make a new life in a strange lan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94400" y="1752480"/>
            <a:ext cx="44496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827A-B827-4221-81B3-B406BE51F2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veloping Curriculum-Framing Quest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fining Curriculum-Framing Questions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inued) – Module 3.07–3.0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2209320"/>
            <a:ext cx="5106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ontent Question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e supporting, fact-based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re categorized as closed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elp strengthen and develop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udents’ understanding of larger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route did the early explorer’s take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were the explorers looking for?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ew additional examples of Curriculum-Framing Questions in Appendix B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5181480"/>
            <a:ext cx="1295280" cy="30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5e647"/>
                </a:solidFill>
                <a:latin typeface="Arial Black"/>
              </a:rPr>
              <a:t>Important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5e647"/>
              </a:solidFill>
              <a:latin typeface="Arial Black"/>
              <a:ea typeface="Arial Black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94400" y="1752480"/>
            <a:ext cx="44496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8974-52E5-4CDA-9926-0AD10D099A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veloping Curriculum-Framing Quest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Practicing with Questions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10–3.1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954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termine Essential Question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 Essential, Unit, and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tent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“big idea” concep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Essential Questions using “big ideas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 with a partner to brainstorm big ide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Essential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975200" y="1971720"/>
            <a:ext cx="3787920" cy="404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99004-7F21-4198-9C2E-805C8B050E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200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veloping Curriculum-Framing Quest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Writing Essential and Unit Question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3.15–3.1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vide into small group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questions that will motivate students and target higher-order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member to write questions in student-appropriate languag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C5119-77BE-4173-93DB-025715D7A8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upporting Higher-Order Thinking Skills with Curriculum–Framing Quest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Looking Deeper into a Uni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17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 with a partn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the Growing a Business unit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the Curriculum-Framing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Focusing on Curriculum-Framing Questions Use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in Unit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1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several of the unit plans and project ideas at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designproject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 on how the Curriculum-Framing Questions are infuse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rite any ideas for Curriculum-Framing Questions you may use in your classro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843A-3144-4985-A351-D0C42C457B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Writing Your Own Curriculum-Framing Quest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518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Creating a First Draft of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stion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- Module 3.1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riting tip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k about why your students are studying this top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long-term understandin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 on brainstorm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y away from definitional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itially write the questions in adult language and then rewrite them in “student” langu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262480" y="1371600"/>
            <a:ext cx="38815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9F4D-EF29-4D9E-B9F9-351EF9C9E0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Writing Your Own Curriculum-Framing Quest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25240" y="1600200"/>
            <a:ext cx="8389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a First Draft of Question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inued) –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3.2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first draft of your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t big (Essential) and work to small (Content), 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t small (Content) and work to big (Essenti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rget Thinking Skills When Revising Questions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 –</a:t>
            </a:r>
            <a:br>
              <a:rPr sz="1500"/>
            </a:b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3.2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thinking skills when revis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rite a second draft of your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1EB6A-662E-4160-8736-3823548808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68824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aring Your Curriculum-Framing Question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3.2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828440"/>
            <a:ext cx="823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 small group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quest ideas for improve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e feedback and revision id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93D2C-3AC1-4903-9B1E-36BD8B6775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7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upporting Think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Updating Your Map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3.2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th your partner, return to your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map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eeingreaso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your work with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map from the perspective of a stud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 different color for new factor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relationships between the facto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your map in your portfol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Reflecting on Curriculum-Framing Questions to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inking Skil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2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oughts about using Curriculum-Framing Questions in your classroo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107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92C8-15D8-4C13-BF18-9C86EA742F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400"/>
            </a:br>
            <a:br>
              <a:rPr sz="1400"/>
            </a:b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Module 3 Summary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2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5760" y="1371600"/>
          <a:ext cx="8237520" cy="456876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3 Key Poi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41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losed questions ask students to understand facts and procedur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urriculum-Framing Questions consist of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sential Question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big overarching ide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it Question(s)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open-ended questions that support the exploration of one part of an Essential Ques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tent Question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– supporting, fact-focused questions that are required to understand and answer Essential and Unit Ques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urriculum-Framing Questions are used throughout a unit to focus learning on important concepts and to promote higher-order thinking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331F-D496-40E0-A659-3F9E0BD3FE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ule 1 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rgeting Thinking in the Classroom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argeting higher-order think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ing your own taxonom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ing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eeing Reas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T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odule 2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signing Standards-Based Project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steps for project plan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ntify standards that target higher-order thinking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ways to use a project-based approach to lear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ntify influences that affect thinking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6E53-7878-4B65-B1F9-021A9C9080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ext Session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4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Student-Centered Assess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assessment metho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 evaluat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ssment id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an Assessmen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398E-BB57-48A7-B02E-A46B2150CA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F203-C3BC-43CB-BCA9-95E617E9F9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ule 3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Curriculum-Framing Questions to Support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nking Skill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nderstand different types of questions used in the classro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and revise Curriculum-Framing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ntify influences affecting thinking from the perspective of a stud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065CB-CD3D-430C-99AC-5E7A4C6222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923760"/>
          <a:ext cx="8237520" cy="5019840"/>
        </p:xfrm>
        <a:graphic>
          <a:graphicData uri="http://schemas.openxmlformats.org/drawingml/2006/table">
            <a:tbl>
              <a:tblPr/>
              <a:tblGrid>
                <a:gridCol w="1982880"/>
                <a:gridCol w="6254640"/>
              </a:tblGrid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4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5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6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7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8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9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0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ting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AC944-22B4-4C92-A0B4-845C664A67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reating Curriculum-Framing Questions to Support Think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14800" y="1676160"/>
            <a:ext cx="4578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Objectiv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71360" indent="-1713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ank questions according to their potential for generating deeper thinking in the classro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derstand the different types of questions used in the classro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derstand the use of Curriculum-Framing Question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actice revising and creating Curriculum-Framing Question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reate a set of Curriculum-Framing Questions for your own classroom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dentify positive and negative influences that can affect thinking—from the perspective of a studen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17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1486080"/>
            <a:ext cx="3600720" cy="44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0F6C-3F84-4CBB-80D2-2FA29AF05A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anking Quest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49280" y="167652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anking Question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01–3.0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ith a partner, use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to rank questions according to their potential for generating deeper thinking in the classro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en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visualranking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 with a partne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g in with your team ID and passwor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anking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nk Questions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view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Visual Ranking w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rkspa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ank ques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 comm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mpare your list with other team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9475B-5A92-4B1C-9CEC-46DC4043EB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anking Quest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3752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Discuss Your Rankin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02–3.03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significant variations in rank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your ranking experi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12717-A178-445A-903F-E64E2F1C74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sking Questions in the Classroom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375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Understanding Open and Closed Questions</a:t>
            </a: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dule 3.04–3.05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osed ques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st factual knowledg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ntain limited range of correct respon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pen Question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uild on factual knowledg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omote higher-order thinkin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Quick reflec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ith a partner, discuss open and closed question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flecting on Questions Used in Your Classroom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dule 3.06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flect on the questions used in a typical day in your classro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22AC-0076-46D7-ABAF-999E3790DD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3: Creating Curriculum-Framing Questions to Support Thinking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eveloping Curriculum-Framing Question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523880"/>
            <a:ext cx="586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Defining Curriculum-Framing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Question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3.07–3.0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e overarching, foundation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“big idea”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n help focus several un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n be used over the course of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ye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does it take to change the world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694400" y="1752480"/>
            <a:ext cx="444960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54B8-4503-4758-B2CA-44484E6BA5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Judi Yost</dc:creator>
  <dc:description/>
  <dc:language>en-US</dc:language>
  <cp:lastModifiedBy>jeyostx</cp:lastModifiedBy>
  <dcterms:modified xsi:type="dcterms:W3CDTF">2008-04-01T19:38:04Z</dcterms:modified>
  <cp:revision>880</cp:revision>
  <dc:subject/>
  <dc:title>Slide 1</dc:title>
</cp:coreProperties>
</file>